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1511-13AD-4AEC-A555-47232C038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887-D4B3-4F01-AAAE-06EB91A0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987-6F33-424B-AC9A-430F2AEA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C2E-B049-4AFB-B32A-BEB65C69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6E1-DAD5-4D91-8075-AF81C879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4AE5-D296-445C-BB48-B0344357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D883-5877-4889-95D8-3F01EAE7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D9DF-443B-4AF6-904B-80094C48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5F60-2CDB-4797-AC4B-D7B9BD12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221A-D116-4276-940C-52EB8019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1CE2-10FA-4301-A84F-A1F924FD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1E92-9CEF-4CAC-9F11-A6E9F65C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C20-2CA6-4C2A-9861-B92B663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87AE-33C8-4689-BF1D-E2D61E0D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376F-0676-4771-AC69-C2BA3F78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B104-D5A9-4A5B-A2A2-F639279A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0CD1-4423-4177-A8BF-413A2ACB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E87D-508A-468D-9D38-27C2159C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5DC-597E-43D7-BD80-67D70D36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5DE-3107-45DD-B406-36D79764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268-A85B-4094-94B4-2CE8D01C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B0F-A1E9-4FAF-8F56-425121B0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26E-7788-43EF-B256-DF3A220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990-C8CE-4B78-83C3-E96B9109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0E9-9CEB-4097-9D4D-CA4C938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FE78-C13B-45B2-9702-ABD5B3B4A77B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722F-B54C-4115-B263-96AC6C349EC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419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Linear Relations Day 3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9, 2009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Greg Clarke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07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08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01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anipulatives &amp; Technology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arouse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24440" y="2470320"/>
            <a:ext cx="3219480" cy="382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20640" y="2338560"/>
            <a:ext cx="38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b78c"/>
                </a:solidFill>
                <a:latin typeface="Arial"/>
              </a:rPr>
              <a:t>Explore 5 out of 8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0800" y="2944800"/>
            <a:ext cx="345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A:  TI-N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B:  C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C:  Giz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D: 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E:   G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F:   Square 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G:  Linking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H:  Real-lif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0280" y="2402280"/>
            <a:ext cx="90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ich Big Ideas were address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through the tasks you di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1200" y="1435320"/>
            <a:ext cx="835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at Mathematical Proces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did you exper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en answering 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87280" y="3589200"/>
            <a:ext cx="28591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59880" y="2041560"/>
            <a:ext cx="6020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How can you use a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of these tas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for stud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in your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7560" y="2495880"/>
            <a:ext cx="838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at would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change or alter with 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45320" y="2041560"/>
            <a:ext cx="645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ich task did you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the hardest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5720" y="2376720"/>
            <a:ext cx="671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hich task di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you find the easies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200" y="2151000"/>
            <a:ext cx="82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 parallel task that is appropriate for your     learning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09-08-05T12:16:16Z</dcterms:modified>
  <cp:revision>94</cp:revision>
  <dc:subject/>
  <dc:title>Slide 1</dc:title>
</cp:coreProperties>
</file>